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F3532-56FE-4756-AF28-319C432A7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62B16-53C8-4842-9B9E-EEDF5E2DF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FFC12-1110-47EC-BF91-02859A15C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C5231-C7C5-4AB4-9574-4E6517743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2BD99-7048-444F-A1F8-159B37FB7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5C022-5FAF-4C9B-BDE9-62ABB0CD3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B8A01-766D-4722-8107-9A558D55D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F6A0-7A49-43AB-83C8-A9D401C69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F6BA8-F00D-44E4-97EE-D0699DB79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E317A-79A4-46B4-B2DA-EE3EC1284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49814-F0CD-4DA6-B468-856568A9E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1F74E-76F0-48E2-BAEE-DCA4EBC8A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CD28E-9E30-42D9-A5CB-F7B82799F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0E81-9884-413D-8487-E9681A59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B1FAE-5DB8-42F4-9FF7-950EEF4A4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9DB48-3319-45A0-8505-4B7029904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4819F-FEA6-4854-A596-17E98C5832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35F6B9-0BF5-45DC-BA34-ABBCF5D28F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2D4E7-32D0-40FE-A61D-21AB4714E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6E2EC-7EF3-47C8-9D21-345DB0CA8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DBDB5-2414-4E75-9B19-C71792FC3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90A70-438F-4E42-89F7-CB086ADAB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8AC1-CE84-492E-A015-443C1B26D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E7555-0733-452C-BB52-B5AB17E07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25478-36B8-4F61-89BF-996AA54FA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5BBEF-1F75-4D2D-A4F2-99E58778F7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3F0A3-DD28-495F-AC4F-2069070CB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115F7-3642-4928-A882-56E3B7D3A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59B2CF-69B5-4CE9-BB55-DD3A97829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857D55-D773-4736-9883-453E9997A1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4368D2-0C45-416C-9FC2-D640B17C55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046CB-D5BD-45E0-91F4-C6CB54763F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4B0A84-4373-4067-B0FD-EC386DBEAF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F058A-9A1D-48AC-B79A-F2C8488AF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77DF01-5D8C-474E-BFAD-373A2FA49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E4CA4-43B6-4B54-8CF0-C5D13F41B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9DE0E-9D04-4139-A031-E1810914AD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9A0D1-506C-40CA-A6F7-681B06CF5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4D783-1013-45D5-AEDF-1C630A3D8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47EF3-8EA8-4AD0-8E79-AF26E25D0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2FB80-1ABE-40D6-AEAA-A02694258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28260C-D0F4-4F71-AD4D-6788B09095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43F5AB-5B13-4F81-923A-4CF8E5B50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50313-012E-495C-8CE4-47D4939C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3F4AC-4F5D-4B67-ADFA-F95ABAB5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26851-895E-4D97-B532-DE046158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254A-2675-43E7-9233-E0C4027E0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0B1FB-9F9E-4857-9C7F-6B081D8DE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240" y="762120"/>
            <a:ext cx="7085160" cy="6862680"/>
            <a:chOff x="-291240" y="762120"/>
            <a:chExt cx="7085160" cy="6862680"/>
          </a:xfrm>
        </p:grpSpPr>
        <p:grpSp>
          <p:nvGrpSpPr>
            <p:cNvPr id="1" name="Group 3"/>
            <p:cNvGrpSpPr/>
            <p:nvPr/>
          </p:nvGrpSpPr>
          <p:grpSpPr>
            <a:xfrm>
              <a:off x="-291240" y="762120"/>
              <a:ext cx="7085160" cy="6862680"/>
              <a:chOff x="-291240" y="762120"/>
              <a:chExt cx="7085160" cy="6862680"/>
            </a:xfrm>
          </p:grpSpPr>
          <p:grpSp>
            <p:nvGrpSpPr>
              <p:cNvPr id="2" name="Group 4"/>
              <p:cNvGrpSpPr/>
              <p:nvPr/>
            </p:nvGrpSpPr>
            <p:grpSpPr>
              <a:xfrm>
                <a:off x="-291240" y="762120"/>
                <a:ext cx="7085160" cy="6862680"/>
                <a:chOff x="-291240" y="762120"/>
                <a:chExt cx="7085160" cy="6862680"/>
              </a:xfrm>
            </p:grpSpPr>
            <p:sp>
              <p:nvSpPr>
                <p:cNvPr id="3" name="Freeform 5"/>
                <p:cNvSpPr/>
                <p:nvPr/>
              </p:nvSpPr>
              <p:spPr>
                <a:xfrm>
                  <a:off x="387000" y="190332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4" name="Group 6"/>
                <p:cNvGrpSpPr/>
                <p:nvPr/>
              </p:nvGrpSpPr>
              <p:grpSpPr>
                <a:xfrm>
                  <a:off x="-291240" y="762120"/>
                  <a:ext cx="7085160" cy="6862680"/>
                  <a:chOff x="-291240" y="762120"/>
                  <a:chExt cx="7085160" cy="6862680"/>
                </a:xfrm>
              </p:grpSpPr>
              <p:sp>
                <p:nvSpPr>
                  <p:cNvPr id="5" name="Freeform 7"/>
                  <p:cNvSpPr/>
                  <p:nvPr/>
                </p:nvSpPr>
                <p:spPr>
                  <a:xfrm>
                    <a:off x="25200" y="122724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 name="Freeform 8"/>
                  <p:cNvSpPr/>
                  <p:nvPr/>
                </p:nvSpPr>
                <p:spPr>
                  <a:xfrm>
                    <a:off x="34560" y="144612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 name="Freeform 9"/>
                  <p:cNvSpPr/>
                  <p:nvPr/>
                </p:nvSpPr>
                <p:spPr>
                  <a:xfrm>
                    <a:off x="206280" y="166536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8" name="Group 10"/>
                  <p:cNvGrpSpPr/>
                  <p:nvPr/>
                </p:nvGrpSpPr>
                <p:grpSpPr>
                  <a:xfrm>
                    <a:off x="-291240" y="762120"/>
                    <a:ext cx="7085160" cy="6862680"/>
                    <a:chOff x="-291240" y="762120"/>
                    <a:chExt cx="7085160" cy="6862680"/>
                  </a:xfrm>
                </p:grpSpPr>
                <p:sp>
                  <p:nvSpPr>
                    <p:cNvPr id="9" name="Freeform 11"/>
                    <p:cNvSpPr/>
                    <p:nvPr/>
                  </p:nvSpPr>
                  <p:spPr>
                    <a:xfrm>
                      <a:off x="25200" y="76212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0" name="Group 12"/>
                    <p:cNvGrpSpPr/>
                    <p:nvPr/>
                  </p:nvGrpSpPr>
                  <p:grpSpPr>
                    <a:xfrm>
                      <a:off x="-291240" y="769320"/>
                      <a:ext cx="7075440" cy="6855480"/>
                      <a:chOff x="-291240" y="769320"/>
                      <a:chExt cx="7075440" cy="6855480"/>
                    </a:xfrm>
                  </p:grpSpPr>
                  <p:sp>
                    <p:nvSpPr>
                      <p:cNvPr id="11" name="Freeform 13"/>
                      <p:cNvSpPr/>
                      <p:nvPr/>
                    </p:nvSpPr>
                    <p:spPr>
                      <a:xfrm>
                        <a:off x="25200" y="97956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2" name="Group 14"/>
                      <p:cNvGrpSpPr/>
                      <p:nvPr/>
                    </p:nvGrpSpPr>
                    <p:grpSpPr>
                      <a:xfrm>
                        <a:off x="-291240" y="769320"/>
                        <a:ext cx="7075440" cy="6855480"/>
                        <a:chOff x="-291240" y="769320"/>
                        <a:chExt cx="7075440" cy="685548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48" name="Freeform 50"/>
                        <p:cNvSpPr/>
                        <p:nvPr/>
                      </p:nvSpPr>
                      <p:spPr>
                        <a:xfrm>
                          <a:off x="25200" y="397836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49" name="Group 51"/>
                        <p:cNvGrpSpPr/>
                        <p:nvPr/>
                      </p:nvGrpSpPr>
                      <p:grpSpPr>
                        <a:xfrm>
                          <a:off x="-291240" y="1247400"/>
                          <a:ext cx="6462720" cy="6377400"/>
                          <a:chOff x="-291240" y="1247400"/>
                          <a:chExt cx="6462720" cy="6377400"/>
                        </a:xfrm>
                      </p:grpSpPr>
                      <p:sp>
                        <p:nvSpPr>
                          <p:cNvPr id="50" name="Oval 52"/>
                          <p:cNvSpPr/>
                          <p:nvPr/>
                        </p:nvSpPr>
                        <p:spPr>
                          <a:xfrm rot="18780000">
                            <a:off x="2467080" y="448524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1" name="Oval 53"/>
                          <p:cNvSpPr/>
                          <p:nvPr/>
                        </p:nvSpPr>
                        <p:spPr>
                          <a:xfrm rot="18780000">
                            <a:off x="2380680" y="429372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2" name="Oval 54"/>
                          <p:cNvSpPr/>
                          <p:nvPr/>
                        </p:nvSpPr>
                        <p:spPr>
                          <a:xfrm rot="18780000">
                            <a:off x="2261520" y="399672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3" name="Oval 55"/>
                          <p:cNvSpPr/>
                          <p:nvPr/>
                        </p:nvSpPr>
                        <p:spPr>
                          <a:xfrm rot="18780000">
                            <a:off x="2169360" y="373788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4" name="Oval 56"/>
                          <p:cNvSpPr/>
                          <p:nvPr/>
                        </p:nvSpPr>
                        <p:spPr>
                          <a:xfrm rot="18780000">
                            <a:off x="2068560" y="3421440"/>
                            <a:ext cx="1247760" cy="2328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5" name="Oval 57"/>
                          <p:cNvSpPr/>
                          <p:nvPr/>
                        </p:nvSpPr>
                        <p:spPr>
                          <a:xfrm rot="18780000">
                            <a:off x="1979640" y="316728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6" name="Oval 58"/>
                          <p:cNvSpPr/>
                          <p:nvPr/>
                        </p:nvSpPr>
                        <p:spPr>
                          <a:xfrm rot="18780000">
                            <a:off x="1851120" y="289188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7" name="Oval 59"/>
                          <p:cNvSpPr/>
                          <p:nvPr/>
                        </p:nvSpPr>
                        <p:spPr>
                          <a:xfrm rot="18780000">
                            <a:off x="1737360" y="262404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8" name="Oval 60"/>
                          <p:cNvSpPr/>
                          <p:nvPr/>
                        </p:nvSpPr>
                        <p:spPr>
                          <a:xfrm rot="18780000">
                            <a:off x="1602000" y="236880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59" name="Oval 61"/>
                          <p:cNvSpPr/>
                          <p:nvPr/>
                        </p:nvSpPr>
                        <p:spPr>
                          <a:xfrm rot="18780000">
                            <a:off x="149724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60" name="Oval 62"/>
                          <p:cNvSpPr/>
                          <p:nvPr/>
                        </p:nvSpPr>
                        <p:spPr>
                          <a:xfrm rot="18734400">
                            <a:off x="1406880" y="181368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61" name="Oval 63"/>
                          <p:cNvSpPr/>
                          <p:nvPr/>
                        </p:nvSpPr>
                        <p:spPr>
                          <a:xfrm rot="18819600">
                            <a:off x="1313640" y="152136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900" spc="-1" strike="noStrike">
                            <a:solidFill>
                              <a:srgbClr val="ffffff"/>
                            </a:solidFill>
                            <a:latin typeface="Garamond"/>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900" spc="-1" strike="noStrike">
                            <a:solidFill>
                              <a:srgbClr val="ffffff"/>
                            </a:solidFill>
                            <a:latin typeface="Garamond"/>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3" name="Freeform 105"/>
                  <p:cNvSpPr/>
                  <p:nvPr/>
                </p:nvSpPr>
                <p:spPr>
                  <a:xfrm>
                    <a:off x="28440" y="504180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900" spc="-1" strike="noStrike">
                      <a:solidFill>
                        <a:srgbClr val="ffffff"/>
                      </a:solidFill>
                      <a:latin typeface="Garamond"/>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3" name="Freeform 115"/>
              <p:cNvSpPr/>
              <p:nvPr/>
            </p:nvSpPr>
            <p:spPr>
              <a:xfrm>
                <a:off x="25560" y="358776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6" name="Rectangle 118"/>
              <p:cNvSpPr/>
              <p:nvPr/>
            </p:nvSpPr>
            <p:spPr>
              <a:xfrm rot="18182400">
                <a:off x="1614600" y="427896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0" name="Freeform 122"/>
                <p:cNvSpPr/>
                <p:nvPr/>
              </p:nvSpPr>
              <p:spPr>
                <a:xfrm>
                  <a:off x="4866840" y="222696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1" name="Freeform 123"/>
                <p:cNvSpPr/>
                <p:nvPr/>
              </p:nvSpPr>
              <p:spPr>
                <a:xfrm>
                  <a:off x="4949640" y="221796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2" name="Freeform 124"/>
                <p:cNvSpPr/>
                <p:nvPr/>
              </p:nvSpPr>
              <p:spPr>
                <a:xfrm>
                  <a:off x="5014800" y="211248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123" name="Freeform 125"/>
                <p:cNvSpPr/>
                <p:nvPr/>
              </p:nvSpPr>
              <p:spPr>
                <a:xfrm>
                  <a:off x="5158080" y="210492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900" spc="-1" strike="noStrike">
                    <a:solidFill>
                      <a:srgbClr val="ffffff"/>
                    </a:solidFill>
                    <a:latin typeface="Garamond"/>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F24C-B9D1-49AD-8101-E0C44322C6CD}"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2"/>
          <p:cNvGrpSpPr/>
          <p:nvPr/>
        </p:nvGrpSpPr>
        <p:grpSpPr>
          <a:xfrm>
            <a:off x="1071720" y="304920"/>
            <a:ext cx="7614720" cy="1106280"/>
            <a:chOff x="1071720" y="304920"/>
            <a:chExt cx="7614720" cy="1106280"/>
          </a:xfrm>
        </p:grpSpPr>
        <p:sp>
          <p:nvSpPr>
            <p:cNvPr id="16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6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17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1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9CE46-9725-46CB-9DF1-C5A52566F907}" type="slidenum">
              <a:rPr b="0" lang="el-GR"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5"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212" name="Group 2"/>
          <p:cNvGrpSpPr/>
          <p:nvPr/>
        </p:nvGrpSpPr>
        <p:grpSpPr>
          <a:xfrm>
            <a:off x="-315000" y="798480"/>
            <a:ext cx="7085160" cy="6862680"/>
            <a:chOff x="-315000" y="798480"/>
            <a:chExt cx="7085160" cy="6862680"/>
          </a:xfrm>
        </p:grpSpPr>
        <p:grpSp>
          <p:nvGrpSpPr>
            <p:cNvPr id="213" name="Group 3"/>
            <p:cNvGrpSpPr/>
            <p:nvPr/>
          </p:nvGrpSpPr>
          <p:grpSpPr>
            <a:xfrm>
              <a:off x="-315000" y="798480"/>
              <a:ext cx="7085160" cy="6862680"/>
              <a:chOff x="-315000" y="798480"/>
              <a:chExt cx="7085160" cy="6862680"/>
            </a:xfrm>
          </p:grpSpPr>
          <p:grpSp>
            <p:nvGrpSpPr>
              <p:cNvPr id="214" name="Group 4"/>
              <p:cNvGrpSpPr/>
              <p:nvPr/>
            </p:nvGrpSpPr>
            <p:grpSpPr>
              <a:xfrm>
                <a:off x="-315000" y="798480"/>
                <a:ext cx="7085160" cy="6862680"/>
                <a:chOff x="-315000" y="798480"/>
                <a:chExt cx="7085160" cy="6862680"/>
              </a:xfrm>
            </p:grpSpPr>
            <p:sp>
              <p:nvSpPr>
                <p:cNvPr id="215" name="Freeform 5"/>
                <p:cNvSpPr/>
                <p:nvPr/>
              </p:nvSpPr>
              <p:spPr>
                <a:xfrm>
                  <a:off x="363240" y="1939680"/>
                  <a:ext cx="5208480" cy="4881600"/>
                </a:xfrm>
                <a:custGeom>
                  <a:avLst/>
                  <a:gdLst>
                    <a:gd name="textAreaLeft" fmla="*/ 0 w 5208480"/>
                    <a:gd name="textAreaRight" fmla="*/ 5208480 w 5208480"/>
                    <a:gd name="textAreaTop" fmla="*/ 0 h 4881600"/>
                    <a:gd name="textAreaBottom" fmla="*/ 4881960 h 4881600"/>
                  </a:gdLst>
                  <a:ahLst/>
                  <a:rect l="textAreaLeft" t="textAreaTop" r="textAreaRight" b="textAreaBottom"/>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16" name="Group 6"/>
                <p:cNvGrpSpPr/>
                <p:nvPr/>
              </p:nvGrpSpPr>
              <p:grpSpPr>
                <a:xfrm>
                  <a:off x="-315000" y="798480"/>
                  <a:ext cx="7085160" cy="6862680"/>
                  <a:chOff x="-315000" y="798480"/>
                  <a:chExt cx="7085160" cy="6862680"/>
                </a:xfrm>
              </p:grpSpPr>
              <p:sp>
                <p:nvSpPr>
                  <p:cNvPr id="217" name="Freeform 7"/>
                  <p:cNvSpPr/>
                  <p:nvPr/>
                </p:nvSpPr>
                <p:spPr>
                  <a:xfrm>
                    <a:off x="1440" y="1263600"/>
                    <a:ext cx="6292440" cy="5557680"/>
                  </a:xfrm>
                  <a:custGeom>
                    <a:avLst/>
                    <a:gdLst>
                      <a:gd name="textAreaLeft" fmla="*/ 0 w 6292440"/>
                      <a:gd name="textAreaRight" fmla="*/ 6292800 w 6292440"/>
                      <a:gd name="textAreaTop" fmla="*/ 0 h 5557680"/>
                      <a:gd name="textAreaBottom" fmla="*/ 5557680 h 5557680"/>
                    </a:gdLst>
                    <a:ahLst/>
                    <a:rect l="textAreaLeft" t="textAreaTop" r="textAreaRight" b="textAreaBottom"/>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8" name="Freeform 8"/>
                  <p:cNvSpPr/>
                  <p:nvPr/>
                </p:nvSpPr>
                <p:spPr>
                  <a:xfrm>
                    <a:off x="10800" y="1482480"/>
                    <a:ext cx="6037200" cy="5338800"/>
                  </a:xfrm>
                  <a:custGeom>
                    <a:avLst/>
                    <a:gdLst>
                      <a:gd name="textAreaLeft" fmla="*/ 0 w 6037200"/>
                      <a:gd name="textAreaRight" fmla="*/ 6037560 w 6037200"/>
                      <a:gd name="textAreaTop" fmla="*/ 0 h 5338800"/>
                      <a:gd name="textAreaBottom" fmla="*/ 5338800 h 5338800"/>
                    </a:gdLst>
                    <a:ahLst/>
                    <a:rect l="textAreaLeft" t="textAreaTop" r="textAreaRight" b="textAreaBottom"/>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19" name="Freeform 9"/>
                  <p:cNvSpPr/>
                  <p:nvPr/>
                </p:nvSpPr>
                <p:spPr>
                  <a:xfrm>
                    <a:off x="182520" y="1701720"/>
                    <a:ext cx="5616000" cy="5119560"/>
                  </a:xfrm>
                  <a:custGeom>
                    <a:avLst/>
                    <a:gdLst>
                      <a:gd name="textAreaLeft" fmla="*/ 0 w 5616000"/>
                      <a:gd name="textAreaRight" fmla="*/ 5616360 w 5616000"/>
                      <a:gd name="textAreaTop" fmla="*/ 0 h 5119560"/>
                      <a:gd name="textAreaBottom" fmla="*/ 5119920 h 5119560"/>
                    </a:gdLst>
                    <a:ahLst/>
                    <a:rect l="textAreaLeft" t="textAreaTop" r="textAreaRight" b="textAreaBottom"/>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0" name="Group 10"/>
                  <p:cNvGrpSpPr/>
                  <p:nvPr/>
                </p:nvGrpSpPr>
                <p:grpSpPr>
                  <a:xfrm>
                    <a:off x="-315000" y="798480"/>
                    <a:ext cx="7085160" cy="6862680"/>
                    <a:chOff x="-315000" y="798480"/>
                    <a:chExt cx="7085160" cy="6862680"/>
                  </a:xfrm>
                </p:grpSpPr>
                <p:sp>
                  <p:nvSpPr>
                    <p:cNvPr id="221" name="Freeform 11"/>
                    <p:cNvSpPr/>
                    <p:nvPr/>
                  </p:nvSpPr>
                  <p:spPr>
                    <a:xfrm>
                      <a:off x="1440" y="798480"/>
                      <a:ext cx="6768720" cy="6022800"/>
                    </a:xfrm>
                    <a:custGeom>
                      <a:avLst/>
                      <a:gdLst>
                        <a:gd name="textAreaLeft" fmla="*/ 0 w 6768720"/>
                        <a:gd name="textAreaRight" fmla="*/ 6769080 w 6768720"/>
                        <a:gd name="textAreaTop" fmla="*/ 0 h 6022800"/>
                        <a:gd name="textAreaBottom" fmla="*/ 6023160 h 6022800"/>
                      </a:gdLst>
                      <a:ahLst/>
                      <a:rect l="textAreaLeft" t="textAreaTop" r="textAreaRight" b="textAreaBottom"/>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2" name="Group 12"/>
                    <p:cNvGrpSpPr/>
                    <p:nvPr/>
                  </p:nvGrpSpPr>
                  <p:grpSpPr>
                    <a:xfrm>
                      <a:off x="-315000" y="805680"/>
                      <a:ext cx="7075440" cy="6855480"/>
                      <a:chOff x="-315000" y="805680"/>
                      <a:chExt cx="7075440" cy="6855480"/>
                    </a:xfrm>
                  </p:grpSpPr>
                  <p:sp>
                    <p:nvSpPr>
                      <p:cNvPr id="223" name="Freeform 13"/>
                      <p:cNvSpPr/>
                      <p:nvPr/>
                    </p:nvSpPr>
                    <p:spPr>
                      <a:xfrm>
                        <a:off x="1440" y="1015920"/>
                        <a:ext cx="6541560" cy="5805360"/>
                      </a:xfrm>
                      <a:custGeom>
                        <a:avLst/>
                        <a:gdLst>
                          <a:gd name="textAreaLeft" fmla="*/ 0 w 6541560"/>
                          <a:gd name="textAreaRight" fmla="*/ 6541920 w 6541560"/>
                          <a:gd name="textAreaTop" fmla="*/ 0 h 5805360"/>
                          <a:gd name="textAreaBottom" fmla="*/ 5805360 h 5805360"/>
                        </a:gdLst>
                        <a:ahLst/>
                        <a:rect l="textAreaLeft" t="textAreaTop" r="textAreaRight" b="textAreaBottom"/>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24" name="Group 14"/>
                      <p:cNvGrpSpPr/>
                      <p:nvPr/>
                    </p:nvGrpSpPr>
                    <p:grpSpPr>
                      <a:xfrm>
                        <a:off x="-315000" y="805680"/>
                        <a:ext cx="7075440" cy="6855480"/>
                        <a:chOff x="-315000" y="805680"/>
                        <a:chExt cx="7075440" cy="6855480"/>
                      </a:xfrm>
                    </p:grpSpPr>
                    <p:sp>
                      <p:nvSpPr>
                        <p:cNvPr id="225"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6"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7"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8"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29"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0"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1"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2"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3"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4"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5"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6"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7"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8"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39"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0"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1"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2"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3"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4"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5"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6"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7"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8"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49"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0"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1"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2"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3"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4"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5"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6"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7"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8"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59"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60" name="Freeform 50"/>
                        <p:cNvSpPr/>
                        <p:nvPr/>
                      </p:nvSpPr>
                      <p:spPr>
                        <a:xfrm>
                          <a:off x="1440" y="4014720"/>
                          <a:ext cx="2447640" cy="2806560"/>
                        </a:xfrm>
                        <a:custGeom>
                          <a:avLst/>
                          <a:gdLst>
                            <a:gd name="textAreaLeft" fmla="*/ 0 w 2447640"/>
                            <a:gd name="textAreaRight" fmla="*/ 2447640 w 2447640"/>
                            <a:gd name="textAreaTop" fmla="*/ 0 h 2806560"/>
                            <a:gd name="textAreaBottom" fmla="*/ 2806920 h 2806560"/>
                          </a:gdLst>
                          <a:ahLst/>
                          <a:rect l="textAreaLeft" t="textAreaTop" r="textAreaRight" b="textAreaBottom"/>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261" name="Group 51"/>
                        <p:cNvGrpSpPr/>
                        <p:nvPr/>
                      </p:nvGrpSpPr>
                      <p:grpSpPr>
                        <a:xfrm>
                          <a:off x="-315000" y="1283760"/>
                          <a:ext cx="6462720" cy="6377400"/>
                          <a:chOff x="-315000" y="1283760"/>
                          <a:chExt cx="6462720" cy="6377400"/>
                        </a:xfrm>
                      </p:grpSpPr>
                      <p:sp>
                        <p:nvSpPr>
                          <p:cNvPr id="262" name="Oval 52"/>
                          <p:cNvSpPr/>
                          <p:nvPr/>
                        </p:nvSpPr>
                        <p:spPr>
                          <a:xfrm rot="18780000">
                            <a:off x="2445120" y="4521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3" name="Oval 53"/>
                          <p:cNvSpPr/>
                          <p:nvPr/>
                        </p:nvSpPr>
                        <p:spPr>
                          <a:xfrm rot="18780000">
                            <a:off x="2356920" y="43300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4" name="Oval 54"/>
                          <p:cNvSpPr/>
                          <p:nvPr/>
                        </p:nvSpPr>
                        <p:spPr>
                          <a:xfrm rot="18780000">
                            <a:off x="2237760" y="40330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5" name="Oval 55"/>
                          <p:cNvSpPr/>
                          <p:nvPr/>
                        </p:nvSpPr>
                        <p:spPr>
                          <a:xfrm rot="18780000">
                            <a:off x="2145600" y="37742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6" name="Oval 56"/>
                          <p:cNvSpPr/>
                          <p:nvPr/>
                        </p:nvSpPr>
                        <p:spPr>
                          <a:xfrm rot="18780000">
                            <a:off x="2046600" y="34581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7" name="Oval 57"/>
                          <p:cNvSpPr/>
                          <p:nvPr/>
                        </p:nvSpPr>
                        <p:spPr>
                          <a:xfrm rot="18780000">
                            <a:off x="1955880" y="32036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8" name="Oval 58"/>
                          <p:cNvSpPr/>
                          <p:nvPr/>
                        </p:nvSpPr>
                        <p:spPr>
                          <a:xfrm rot="18780000">
                            <a:off x="1827360" y="2928240"/>
                            <a:ext cx="1852560" cy="33238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69" name="Oval 59"/>
                          <p:cNvSpPr/>
                          <p:nvPr/>
                        </p:nvSpPr>
                        <p:spPr>
                          <a:xfrm rot="18780000">
                            <a:off x="1713600" y="26604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0" name="Oval 60"/>
                          <p:cNvSpPr/>
                          <p:nvPr/>
                        </p:nvSpPr>
                        <p:spPr>
                          <a:xfrm rot="18780000">
                            <a:off x="1576800" y="2405160"/>
                            <a:ext cx="248112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1" name="Oval 61"/>
                          <p:cNvSpPr/>
                          <p:nvPr/>
                        </p:nvSpPr>
                        <p:spPr>
                          <a:xfrm rot="18780000">
                            <a:off x="1475280" y="2121120"/>
                            <a:ext cx="2716200" cy="47872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2" name="Oval 62"/>
                          <p:cNvSpPr/>
                          <p:nvPr/>
                        </p:nvSpPr>
                        <p:spPr>
                          <a:xfrm rot="18734400">
                            <a:off x="1383120" y="18500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273" name="Oval 63"/>
                          <p:cNvSpPr/>
                          <p:nvPr/>
                        </p:nvSpPr>
                        <p:spPr>
                          <a:xfrm rot="18819600">
                            <a:off x="1289880" y="1557720"/>
                            <a:ext cx="325260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274"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5"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6"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7"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8"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79"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0"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1"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2"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3"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4"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900" spc="-1" strike="noStrike">
                            <a:solidFill>
                              <a:srgbClr val="ffffff"/>
                            </a:solidFill>
                            <a:latin typeface="Garamond"/>
                          </a:endParaRPr>
                        </a:p>
                      </p:txBody>
                    </p:sp>
                    <p:sp>
                      <p:nvSpPr>
                        <p:cNvPr id="285"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6"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7"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8"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89"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0"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1"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2"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3"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4"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5"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6"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7"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900" spc="-1" strike="noStrike">
                            <a:solidFill>
                              <a:srgbClr val="ffffff"/>
                            </a:solidFill>
                            <a:latin typeface="Garamond"/>
                          </a:endParaRPr>
                        </a:p>
                      </p:txBody>
                    </p:sp>
                    <p:sp>
                      <p:nvSpPr>
                        <p:cNvPr id="298"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299"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0"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1"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2"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3"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4"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5"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6"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7"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8"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09"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grpSp>
              </p:grpSp>
            </p:grpSp>
          </p:grpSp>
          <p:grpSp>
            <p:nvGrpSpPr>
              <p:cNvPr id="310" name="Group 100"/>
              <p:cNvGrpSpPr/>
              <p:nvPr/>
            </p:nvGrpSpPr>
            <p:grpSpPr>
              <a:xfrm>
                <a:off x="4320" y="2715480"/>
                <a:ext cx="5018040" cy="4112280"/>
                <a:chOff x="4320" y="2715480"/>
                <a:chExt cx="5018040" cy="4112280"/>
              </a:xfrm>
            </p:grpSpPr>
            <p:sp>
              <p:nvSpPr>
                <p:cNvPr id="311"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2"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grpSp>
              <p:nvGrpSpPr>
                <p:cNvPr id="313" name="Group 103"/>
                <p:cNvGrpSpPr/>
                <p:nvPr/>
              </p:nvGrpSpPr>
              <p:grpSpPr>
                <a:xfrm>
                  <a:off x="4320" y="4316040"/>
                  <a:ext cx="2090160" cy="2511720"/>
                  <a:chOff x="4320" y="4316040"/>
                  <a:chExt cx="2090160" cy="2511720"/>
                </a:xfrm>
              </p:grpSpPr>
              <p:sp>
                <p:nvSpPr>
                  <p:cNvPr id="314"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5" name="Freeform 105"/>
                  <p:cNvSpPr/>
                  <p:nvPr/>
                </p:nvSpPr>
                <p:spPr>
                  <a:xfrm>
                    <a:off x="4680" y="5078160"/>
                    <a:ext cx="1596600" cy="1749600"/>
                  </a:xfrm>
                  <a:custGeom>
                    <a:avLst/>
                    <a:gdLst>
                      <a:gd name="textAreaLeft" fmla="*/ 0 w 1596600"/>
                      <a:gd name="textAreaRight" fmla="*/ 1596960 w 1596600"/>
                      <a:gd name="textAreaTop" fmla="*/ 0 h 1749600"/>
                      <a:gd name="textAreaBottom" fmla="*/ 1749960 h 1749600"/>
                    </a:gdLst>
                    <a:ahLst/>
                    <a:rect l="textAreaLeft" t="textAreaTop" r="textAreaRight" b="textAreaBottom"/>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6"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7"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8"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19"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0"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1"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2"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900" spc="-1" strike="noStrike">
                      <a:solidFill>
                        <a:srgbClr val="ffffff"/>
                      </a:solidFill>
                      <a:latin typeface="Garamond"/>
                    </a:endParaRPr>
                  </a:p>
                </p:txBody>
              </p:sp>
            </p:grpSp>
          </p:grpSp>
        </p:grpSp>
        <p:grpSp>
          <p:nvGrpSpPr>
            <p:cNvPr id="323" name="Group 113"/>
            <p:cNvGrpSpPr/>
            <p:nvPr/>
          </p:nvGrpSpPr>
          <p:grpSpPr>
            <a:xfrm>
              <a:off x="1800" y="2141280"/>
              <a:ext cx="5221080" cy="4680000"/>
              <a:chOff x="1800" y="2141280"/>
              <a:chExt cx="5221080" cy="4680000"/>
            </a:xfrm>
          </p:grpSpPr>
          <p:sp>
            <p:nvSpPr>
              <p:cNvPr id="324" name="Freeform 114"/>
              <p:cNvSpPr/>
              <p:nvPr/>
            </p:nvSpPr>
            <p:spPr>
              <a:xfrm>
                <a:off x="1800" y="4252680"/>
                <a:ext cx="2286000" cy="2568600"/>
              </a:xfrm>
              <a:custGeom>
                <a:avLst/>
                <a:gdLst>
                  <a:gd name="textAreaLeft" fmla="*/ 0 w 2286000"/>
                  <a:gd name="textAreaRight" fmla="*/ 2286360 w 2286000"/>
                  <a:gd name="textAreaTop" fmla="*/ 0 h 2568600"/>
                  <a:gd name="textAreaBottom" fmla="*/ 2568960 h 2568600"/>
                </a:gdLst>
                <a:ahLst/>
                <a:rect l="textAreaLeft" t="textAreaTop" r="textAreaRight" b="textAreaBottom"/>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5" name="Freeform 115"/>
              <p:cNvSpPr/>
              <p:nvPr/>
            </p:nvSpPr>
            <p:spPr>
              <a:xfrm>
                <a:off x="1800" y="3624120"/>
                <a:ext cx="2655720" cy="3197160"/>
              </a:xfrm>
              <a:custGeom>
                <a:avLst/>
                <a:gdLst>
                  <a:gd name="textAreaLeft" fmla="*/ 0 w 2655720"/>
                  <a:gd name="textAreaRight" fmla="*/ 2655720 w 2655720"/>
                  <a:gd name="textAreaTop" fmla="*/ 0 h 3197160"/>
                  <a:gd name="textAreaBottom" fmla="*/ 3197520 h 3197160"/>
                </a:gdLst>
                <a:ahLst/>
                <a:rect l="textAreaLeft" t="textAreaTop" r="textAreaRight" b="textAreaBottom"/>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26"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7"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8" name="Rectangle 118"/>
              <p:cNvSpPr/>
              <p:nvPr/>
            </p:nvSpPr>
            <p:spPr>
              <a:xfrm rot="18182400">
                <a:off x="1590840" y="4315320"/>
                <a:ext cx="425160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29"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nvGrpSpPr>
              <p:cNvPr id="330" name="Group 120"/>
              <p:cNvGrpSpPr/>
              <p:nvPr/>
            </p:nvGrpSpPr>
            <p:grpSpPr>
              <a:xfrm>
                <a:off x="4728960" y="2141280"/>
                <a:ext cx="493920" cy="494280"/>
                <a:chOff x="4728960" y="2141280"/>
                <a:chExt cx="493920" cy="494280"/>
              </a:xfrm>
            </p:grpSpPr>
            <p:sp>
              <p:nvSpPr>
                <p:cNvPr id="331" name="Oval 121"/>
                <p:cNvSpPr/>
                <p:nvPr/>
              </p:nvSpPr>
              <p:spPr>
                <a:xfrm rot="2828400">
                  <a:off x="4744800" y="2367000"/>
                  <a:ext cx="31572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32" name="Freeform 122"/>
                <p:cNvSpPr/>
                <p:nvPr/>
              </p:nvSpPr>
              <p:spPr>
                <a:xfrm>
                  <a:off x="4843080" y="2263320"/>
                  <a:ext cx="254160" cy="247320"/>
                </a:xfrm>
                <a:custGeom>
                  <a:avLst/>
                  <a:gdLst>
                    <a:gd name="textAreaLeft" fmla="*/ 0 w 254160"/>
                    <a:gd name="textAreaRight" fmla="*/ 254520 w 254160"/>
                    <a:gd name="textAreaTop" fmla="*/ 0 h 247320"/>
                    <a:gd name="textAreaBottom" fmla="*/ 247680 h 247320"/>
                  </a:gdLst>
                  <a:ahLst/>
                  <a:rect l="textAreaLeft" t="textAreaTop" r="textAreaRight" b="textAreaBottom"/>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3" name="Freeform 123"/>
                <p:cNvSpPr/>
                <p:nvPr/>
              </p:nvSpPr>
              <p:spPr>
                <a:xfrm>
                  <a:off x="4925880" y="2254320"/>
                  <a:ext cx="182520" cy="173160"/>
                </a:xfrm>
                <a:custGeom>
                  <a:avLst/>
                  <a:gdLst>
                    <a:gd name="textAreaLeft" fmla="*/ 0 w 182520"/>
                    <a:gd name="textAreaRight" fmla="*/ 182880 w 182520"/>
                    <a:gd name="textAreaTop" fmla="*/ 0 h 173160"/>
                    <a:gd name="textAreaBottom" fmla="*/ 173160 h 17316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4" name="Freeform 124"/>
                <p:cNvSpPr/>
                <p:nvPr/>
              </p:nvSpPr>
              <p:spPr>
                <a:xfrm>
                  <a:off x="4991040" y="2148840"/>
                  <a:ext cx="227160" cy="222840"/>
                </a:xfrm>
                <a:custGeom>
                  <a:avLst/>
                  <a:gdLst>
                    <a:gd name="textAreaLeft" fmla="*/ 0 w 227160"/>
                    <a:gd name="textAreaRight" fmla="*/ 227520 w 227160"/>
                    <a:gd name="textAreaTop" fmla="*/ 0 h 222840"/>
                    <a:gd name="textAreaBottom" fmla="*/ 223200 h 222840"/>
                  </a:gdLst>
                  <a:ahLst/>
                  <a:rect l="textAreaLeft" t="textAreaTop" r="textAreaRight" b="textAreaBottom"/>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900" spc="-1" strike="noStrike">
                    <a:solidFill>
                      <a:srgbClr val="ffffff"/>
                    </a:solidFill>
                    <a:latin typeface="Garamond"/>
                  </a:endParaRPr>
                </a:p>
              </p:txBody>
            </p:sp>
            <p:sp>
              <p:nvSpPr>
                <p:cNvPr id="335" name="Freeform 125"/>
                <p:cNvSpPr/>
                <p:nvPr/>
              </p:nvSpPr>
              <p:spPr>
                <a:xfrm>
                  <a:off x="5134320" y="2141280"/>
                  <a:ext cx="88560" cy="82800"/>
                </a:xfrm>
                <a:custGeom>
                  <a:avLst/>
                  <a:gdLst>
                    <a:gd name="textAreaLeft" fmla="*/ 0 w 88560"/>
                    <a:gd name="textAreaRight" fmla="*/ 88920 w 88560"/>
                    <a:gd name="textAreaTop" fmla="*/ 0 h 82800"/>
                    <a:gd name="textAreaBottom" fmla="*/ 83160 h 82800"/>
                  </a:gdLst>
                  <a:ahLst/>
                  <a:rect l="textAreaLeft" t="textAreaTop" r="textAreaRight" b="textAreaBottom"/>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endParaRPr b="0" lang="en-US" sz="1900" spc="-1" strike="noStrike">
                    <a:solidFill>
                      <a:srgbClr val="ffffff"/>
                    </a:solidFill>
                    <a:latin typeface="Garamond"/>
                  </a:endParaRPr>
                </a:p>
              </p:txBody>
            </p:sp>
          </p:grpSp>
        </p:grpSp>
      </p:grpSp>
      <p:sp>
        <p:nvSpPr>
          <p:cNvPr id="33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3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33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4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4F97-E5F3-4FBB-B4F1-F8D2B150926B}" type="slidenum">
              <a:rPr b="0" lang="el-G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7" name="Group 2"/>
          <p:cNvGrpSpPr/>
          <p:nvPr/>
        </p:nvGrpSpPr>
        <p:grpSpPr>
          <a:xfrm>
            <a:off x="1658520" y="1600200"/>
            <a:ext cx="6837480" cy="3200400"/>
            <a:chOff x="1658520" y="1600200"/>
            <a:chExt cx="6837480" cy="3200400"/>
          </a:xfrm>
        </p:grpSpPr>
        <p:sp>
          <p:nvSpPr>
            <p:cNvPr id="37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7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grpSp>
      <p:sp>
        <p:nvSpPr>
          <p:cNvPr id="38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8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p:txBody>
      </p:sp>
      <p:sp>
        <p:nvSpPr>
          <p:cNvPr id="38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354E-A9B6-42D6-8870-A7BF77A091D2}" type="slidenum">
              <a:rPr b="0" lang="el-GR"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1052640"/>
            <a:ext cx="9144000" cy="22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700" spc="-1" strike="noStrike">
                <a:solidFill>
                  <a:srgbClr val="c4c3aa"/>
                </a:solidFill>
                <a:latin typeface="Arial"/>
              </a:rPr>
              <a:t>ΕΡΓΑΣΙΑ ΑΣΥΡΜΑΤΑ ΔΙΚΤΥΑ  ΟΜΑΔΑ  3</a:t>
            </a:r>
            <a:br>
              <a:rPr sz="4700"/>
            </a:br>
            <a:r>
              <a:rPr b="0" lang="el-GR" sz="4700" spc="-1" strike="noStrike">
                <a:solidFill>
                  <a:srgbClr val="c4c3aa"/>
                </a:solidFill>
                <a:latin typeface="Arial"/>
              </a:rPr>
              <a:t> ΓΙΩΡΓΟΣ  ΧΑΪΔΕΜΕΝΟΣ  ΒΠ</a:t>
            </a:r>
            <a:endParaRPr b="0" lang="en-US" sz="4700" spc="-1" strike="noStrike">
              <a:solidFill>
                <a:srgbClr val="c4c3aa"/>
              </a:solidFill>
              <a:latin typeface="Arial"/>
            </a:endParaRPr>
          </a:p>
        </p:txBody>
      </p:sp>
      <p:sp>
        <p:nvSpPr>
          <p:cNvPr id="4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ΤΙ Ε</a:t>
            </a:r>
            <a:r>
              <a:rPr b="0" lang="en-US" sz="3200" spc="-1" strike="noStrike">
                <a:solidFill>
                  <a:srgbClr val="ffffff"/>
                </a:solidFill>
                <a:latin typeface="Verdana"/>
              </a:rPr>
              <a:t>I</a:t>
            </a:r>
            <a:r>
              <a:rPr b="0" lang="el-GR" sz="3200" spc="-1" strike="noStrike">
                <a:solidFill>
                  <a:srgbClr val="ffffff"/>
                </a:solidFill>
                <a:latin typeface="Verdana"/>
              </a:rPr>
              <a:t>ΝΑΙ ΤΟ </a:t>
            </a:r>
            <a:r>
              <a:rPr b="0" lang="en-US" sz="3200" spc="-1" strike="noStrike">
                <a:solidFill>
                  <a:srgbClr val="ffffff"/>
                </a:solidFill>
                <a:latin typeface="Verdana"/>
              </a:rPr>
              <a:t>WIMAX;</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34884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5" name="PlaceHolder 2"/>
          <p:cNvSpPr>
            <a:spLocks noGrp="1"/>
          </p:cNvSpPr>
          <p:nvPr>
            <p:ph/>
          </p:nvPr>
        </p:nvSpPr>
        <p:spPr>
          <a:xfrm>
            <a:off x="457200" y="691920"/>
            <a:ext cx="8229600" cy="543852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έχει κάλυψη σε περιοχές που είναι αδύνατο τα καλυφθούν με χρήση χαλκού ή οπτικής ίνας</a:t>
            </a:r>
            <a:r>
              <a:rPr b="0" lang="el-GR" sz="1800" spc="-1" strike="noStrike">
                <a:solidFill>
                  <a:srgbClr val="000000"/>
                </a:solidFill>
                <a:latin typeface="Arial"/>
              </a:rPr>
              <a:t>. Μπορεί να χρησιμοποιηθεί σαν συμπλήρωμα δικτύων οπτικών ινών σε τμήματα του εδάφους στα οποία το κόστος εγκατάστασης και συντήρησης δικτύων οπτικών ινών είναι απαγορευτικό.</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WiMΑΧ  έχει δύο κύριες εφαρμογές: οι σταθερές εφαρμογές WiMΑΧ είναι </a:t>
            </a:r>
            <a:r>
              <a:rPr b="1" lang="el-GR" sz="1800" spc="-1" strike="noStrike">
                <a:solidFill>
                  <a:srgbClr val="000000"/>
                </a:solidFill>
                <a:latin typeface="Arial"/>
              </a:rPr>
              <a:t>Point-to-Multipoint</a:t>
            </a:r>
            <a:r>
              <a:rPr b="0" lang="el-GR" sz="1800" spc="-1" strike="noStrike">
                <a:solidFill>
                  <a:srgbClr val="000000"/>
                </a:solidFill>
                <a:latin typeface="Arial"/>
              </a:rPr>
              <a:t> επιτρέποντας την ευρυζωνική πρόσβαση στα σπίτια και τις επιχειρήσεις, ενώ κινητό </a:t>
            </a:r>
            <a:r>
              <a:rPr b="0" lang="en-US" sz="1800" spc="-1" strike="noStrike">
                <a:solidFill>
                  <a:srgbClr val="000000"/>
                </a:solidFill>
                <a:latin typeface="Arial"/>
              </a:rPr>
              <a:t>WiMax</a:t>
            </a:r>
            <a:r>
              <a:rPr b="0" lang="el-GR" sz="1800" spc="-1" strike="noStrike">
                <a:solidFill>
                  <a:srgbClr val="000000"/>
                </a:solidFill>
                <a:latin typeface="Arial"/>
              </a:rPr>
              <a:t> προσφέρει την πλήρη κινητικότητα των κυψελοειδών δικτύων με τις αληθινές ευρυζωνικές ταχύτητες. Το WiMΑΧ σχεδιάστηκε κατά βάση ώστε να καλύπτει κυρίως Point-to-Multipoint (PTM) συνδέσεις χωρίς ωστόσο να αποκλείεται και η χρήση του για point to point συνδέσεις. Η διαμόρφωση η οποία χρησιμοποιείται ονομάζεται OFDM (Orthogonal Frequency Division Multiplexing). Πρόκειται για μια πολύ ανθεκτική διαμόρφωση σε ότι αφορά το φαινόμενο της πολυδιόδευσης ειδικότερα στις συχνότητες πάνω των 2 GHz όπου το πρότυπο χρησιμοποιεί. Συγκεκριμένα, αυτή η διαμόρφωση έχει πλεονεκτήματα στη ρυθμοαπόδοση, στη λανθάνουσα κατάσταση, τη φασματική αποδοτικότητα και την προηγμένη υποστήριξη κεραιών κάνοντάς το ικανό να παρέχει την υψηλότερη απόδοση από τις σημερινές ευρείες ασύρματες  τεχνολογίες περιοχής.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6767ff"/>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Arial"/>
              </a:rPr>
              <a:t>          </a:t>
            </a:r>
            <a:r>
              <a:rPr b="0" lang="el-GR" sz="3800" spc="-1" strike="noStrike">
                <a:solidFill>
                  <a:srgbClr val="000000"/>
                </a:solidFill>
                <a:latin typeface="Arial"/>
              </a:rPr>
              <a:t>ΠΗΓΕΣ ΠΛΗΡΟΦΟΡΙΩΝ</a:t>
            </a: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829152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www.pestaola.gr/wimax-in-plain-greek/ν</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el.wikipedia.org/wiki/WiMAX</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http://bestbuydoc.com/el/doc-file/5956/%CE%B5%CF%81%CE%B3%CE%B1%CF%83%CE%AF%CE%B1-%CF%83%CF%84%CE%B1-%CF%80%CE%BB%CE%B1%CE%B9%CF%83%CE%B9%CE%B1-%CF%84%CE%BF%CF%85-%CE%BC%CE%B1%CE%B8%CE%B7%CE%BC%CE%B1%CF%84%CE%BF%CF%83-%CE%B4%CE%AF%CE%BA%CF%84%CF%85%CE%B1-%CE%B4%CE%B7%CE%BC%CF%8C%CF%83%CE%B9%CE%B1%CF%82-%CF%87%CF%81%CE%AE%CF%83%CE%B7%CF%82-%CE%BA%CE%B1%CE%B9-%CE%B4%CE%B9%CE%B1%CF%83%CF%8D%CE%BD%CE%B4%CE%B5%CF%83%CE%B7-%CE%B4%CE%B9%CE%BA%CF%84%CF%8D%CF%89%CE%BD.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1" lang="el-GR" sz="3800" spc="-1" strike="noStrike">
                <a:solidFill>
                  <a:srgbClr val="000000"/>
                </a:solidFill>
                <a:latin typeface="Comic Sans MS"/>
              </a:rPr>
              <a:t>ΔΙΚΤΥΟ </a:t>
            </a:r>
            <a:r>
              <a:rPr b="1" lang="en-US" sz="3800" spc="-1" strike="noStrike">
                <a:solidFill>
                  <a:srgbClr val="000000"/>
                </a:solidFill>
                <a:latin typeface="Comic Sans MS"/>
              </a:rPr>
              <a:t>WIMAX</a:t>
            </a:r>
            <a:endParaRPr b="0" lang="en-US" sz="3800" spc="-1" strike="noStrike">
              <a:solidFill>
                <a:srgbClr val="000000"/>
              </a:solidFill>
              <a:latin typeface="Arial"/>
            </a:endParaRPr>
          </a:p>
        </p:txBody>
      </p:sp>
      <p:pic>
        <p:nvPicPr>
          <p:cNvPr id="428" name="Εικόνα 5" descr=""/>
          <p:cNvPicPr/>
          <p:nvPr/>
        </p:nvPicPr>
        <p:blipFill>
          <a:blip r:embed="rId1"/>
          <a:stretch/>
        </p:blipFill>
        <p:spPr>
          <a:xfrm>
            <a:off x="468360" y="1557360"/>
            <a:ext cx="813600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4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0" name="PlaceHolder 2"/>
          <p:cNvSpPr>
            <a:spLocks noGrp="1"/>
          </p:cNvSpPr>
          <p:nvPr>
            <p:ph/>
          </p:nvPr>
        </p:nvSpPr>
        <p:spPr>
          <a:xfrm>
            <a:off x="755640" y="189000"/>
            <a:ext cx="7693200" cy="6408720"/>
          </a:xfrm>
          <a:prstGeom prst="rect">
            <a:avLst/>
          </a:prstGeom>
          <a:noFill/>
          <a:ln w="0">
            <a:noFill/>
          </a:ln>
        </p:spPr>
        <p:txBody>
          <a:bodyPr anchor="t">
            <a:normAutofit/>
          </a:bodyPr>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2003 η ΙΕΕΕ υιοθέτησε το πρότυπο 802.16 γνωστό και σαν WiMΑΧ, ώστε να ικανοποιήσει τις απαιτήσεις για ασύρματη πρόσβαση (με σταθερούς ρυθμούς) ευρείας ζώνης. Όπως συμβαίνει με τα πρότυπα της σειράς 802 για ασύρματα τοπικά δίκτυα, έτσι και το 802.16 καθορίζει μια οικογένεια προτύπων με επιλογές για συγκεκριμένες ρυθμίσεις. Το </a:t>
            </a:r>
            <a:r>
              <a:rPr b="0" lang="en-US" sz="1900" spc="-1" strike="noStrike">
                <a:solidFill>
                  <a:srgbClr val="000000"/>
                </a:solidFill>
                <a:latin typeface="Arial"/>
              </a:rPr>
              <a:t>WiMax</a:t>
            </a:r>
            <a:r>
              <a:rPr b="0" lang="el-GR" sz="1900" spc="-1" strike="noStrike">
                <a:solidFill>
                  <a:srgbClr val="000000"/>
                </a:solidFill>
                <a:latin typeface="Arial"/>
              </a:rPr>
              <a:t> είναι μια νέα τεχνολογία, ένα βήμα μπροστά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που παρέχει ασύρματη ευρυζωνική πρόσβαση υψηλών ταχυτήτων σε μεγάλες αποστάσεις</a:t>
            </a:r>
            <a:r>
              <a:rPr b="1" lang="el-GR" sz="1900" spc="-1" strike="noStrike">
                <a:solidFill>
                  <a:srgbClr val="000000"/>
                </a:solidFill>
                <a:latin typeface="Arial"/>
              </a:rPr>
              <a:t> . Συγκεκριμένα WiMAX</a:t>
            </a:r>
            <a:r>
              <a:rPr b="0" lang="el-GR" sz="1900" spc="-1" strike="noStrike">
                <a:solidFill>
                  <a:srgbClr val="000000"/>
                </a:solidFill>
                <a:latin typeface="Arial"/>
              </a:rPr>
              <a:t> αποκαλείται η τεχνολογία ασύρματης δικτύωσης η οποία λειτουργεί με παρεμφερή τρόπο με το </a:t>
            </a:r>
            <a:r>
              <a:rPr b="0" lang="el-GR" sz="1900" spc="-1" strike="noStrike" u="sng">
                <a:solidFill>
                  <a:srgbClr val="6767ff"/>
                </a:solidFill>
                <a:uFillTx/>
                <a:latin typeface="Arial"/>
                <a:hlinkClick r:id="rId1"/>
              </a:rPr>
              <a:t>Wi-Fi</a:t>
            </a:r>
            <a:r>
              <a:rPr b="0" lang="el-GR" sz="1900" spc="-1" strike="noStrike">
                <a:solidFill>
                  <a:srgbClr val="000000"/>
                </a:solidFill>
                <a:latin typeface="Arial"/>
              </a:rPr>
              <a:t>,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Είναι σαφώς καλύτερο από το </a:t>
            </a:r>
            <a:r>
              <a:rPr b="0" lang="en-US" sz="1900" spc="-1" strike="noStrike">
                <a:solidFill>
                  <a:srgbClr val="000000"/>
                </a:solidFill>
                <a:latin typeface="Arial"/>
              </a:rPr>
              <a:t>Wi</a:t>
            </a:r>
            <a:r>
              <a:rPr b="0" lang="el-GR" sz="1900" spc="-1" strike="noStrike">
                <a:solidFill>
                  <a:srgbClr val="000000"/>
                </a:solidFill>
                <a:latin typeface="Arial"/>
              </a:rPr>
              <a:t>-</a:t>
            </a:r>
            <a:r>
              <a:rPr b="0" lang="en-US" sz="1900" spc="-1" strike="noStrike">
                <a:solidFill>
                  <a:srgbClr val="000000"/>
                </a:solidFill>
                <a:latin typeface="Arial"/>
              </a:rPr>
              <a:t>Fi</a:t>
            </a:r>
            <a:r>
              <a:rPr b="0" lang="el-GR" sz="1900" spc="-1" strike="noStrike">
                <a:solidFill>
                  <a:srgbClr val="000000"/>
                </a:solidFill>
                <a:latin typeface="Arial"/>
              </a:rPr>
              <a:t> και μπορεί να καλύψει μεγαλύτερες αποστάσεις μετάδοσης. Πλέον ένας φορητός υπολογιστής μπορεί να συνδυάζει τις ιδιότητες κινητού τηλεφώνου και ραδιοφωνικού πομπού: θα πιάνει «παντού» και θα εξασφαλίζει επικοινωνία με και από κάθε γωνιά του πλανήτη.</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Αρχικά, το όραμα των υπερασπιστών του </a:t>
            </a:r>
            <a:r>
              <a:rPr b="0" lang="en-US" sz="1900" spc="-1" strike="noStrike">
                <a:solidFill>
                  <a:srgbClr val="000000"/>
                </a:solidFill>
                <a:latin typeface="Arial"/>
              </a:rPr>
              <a:t>WiMax</a:t>
            </a:r>
            <a:r>
              <a:rPr b="0" lang="el-GR" sz="1900" spc="-1" strike="noStrike">
                <a:solidFill>
                  <a:srgbClr val="000000"/>
                </a:solidFill>
                <a:latin typeface="Arial"/>
              </a:rPr>
              <a:t>, όπως φαίνεται και στο παρακάτω σχήμα, ήταν ότι οι μεταφορείς θα εγκαταστήσουν πομποδέκτες στεγών ως σταθμούς βάσεων συνδεδεμένους με το Διαδίκτυο. Κάθε ένας σταθμός βάσεων θα μπορούσε να χρησιμοποιήσει την τεχνολογία </a:t>
            </a:r>
            <a:r>
              <a:rPr b="0" lang="en-US" sz="1900" spc="-1" strike="noStrike">
                <a:solidFill>
                  <a:srgbClr val="000000"/>
                </a:solidFill>
                <a:latin typeface="Arial"/>
              </a:rPr>
              <a:t>WiMax</a:t>
            </a:r>
            <a:r>
              <a:rPr b="0" lang="el-GR" sz="1900" spc="-1" strike="noStrike">
                <a:solidFill>
                  <a:srgbClr val="000000"/>
                </a:solidFill>
                <a:latin typeface="Arial"/>
              </a:rPr>
              <a:t> για να στείλει και να λάβει δεδομένα από και προς τις σταθερές κεραίες συνδρομητών, που είναι τοποθετημένες στις στέγες ή στους εξωτερικούς τοίχους.</a:t>
            </a:r>
            <a:endParaRPr b="0" lang="en-US" sz="1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4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2" name="PlaceHolder 2"/>
          <p:cNvSpPr>
            <a:spLocks noGrp="1"/>
          </p:cNvSpPr>
          <p:nvPr>
            <p:ph/>
          </p:nvPr>
        </p:nvSpPr>
        <p:spPr>
          <a:xfrm>
            <a:off x="468360" y="188640"/>
            <a:ext cx="8229600" cy="66690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τίθετα με άλλα ασύρματα δίκτυα, τα οποία επιτρέπουν μεταδόσεις μόνο με ένα φάσμα συχνότητας, το </a:t>
            </a:r>
            <a:r>
              <a:rPr b="0" lang="en-US" sz="2000" spc="-1" strike="noStrike">
                <a:solidFill>
                  <a:srgbClr val="000000"/>
                </a:solidFill>
                <a:latin typeface="Arial"/>
              </a:rPr>
              <a:t>WiMax</a:t>
            </a:r>
            <a:r>
              <a:rPr b="0" lang="el-GR" sz="2000" spc="-1" strike="noStrike">
                <a:solidFill>
                  <a:srgbClr val="000000"/>
                </a:solidFill>
                <a:latin typeface="Arial"/>
              </a:rPr>
              <a:t> επιτρέπει τη μεταφορά δεδομένων με πολλαπλά, ευρέα φάσματα συχνότητας. Αυτό βοηθάει πάρα πολύ, γιατί το να υπάρχουν πολλά φάσματα, μεγιστοποιεί τη δυνατότητα της τεχνολογίας να μεταδώσει πέρα από τις   συχνότητες άλλων ασύρματων εφαρμογών.</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0" lang="en-US" sz="2000" spc="-1" strike="noStrike">
                <a:solidFill>
                  <a:srgbClr val="000000"/>
                </a:solidFill>
                <a:latin typeface="Arial"/>
              </a:rPr>
              <a:t>WiMax</a:t>
            </a:r>
            <a:r>
              <a:rPr b="0" lang="el-GR" sz="2000" spc="-1" strike="noStrike">
                <a:solidFill>
                  <a:srgbClr val="000000"/>
                </a:solidFill>
                <a:latin typeface="Arial"/>
              </a:rPr>
              <a:t> αναμένεται να επιτρέψει αληθινές ευρυζωνικές ταχύτητες πέρα από τα ασύρματα δίκτυα με κόστος που θα καταστήσει ενεργή την υιοθέτηση μαζικής αγοράς. Το </a:t>
            </a:r>
            <a:r>
              <a:rPr b="0" lang="en-US" sz="2000" spc="-1" strike="noStrike">
                <a:solidFill>
                  <a:srgbClr val="000000"/>
                </a:solidFill>
                <a:latin typeface="Arial"/>
              </a:rPr>
              <a:t>WiMax</a:t>
            </a:r>
            <a:r>
              <a:rPr b="0" lang="el-GR" sz="2000" spc="-1" strike="noStrike">
                <a:solidFill>
                  <a:srgbClr val="000000"/>
                </a:solidFill>
                <a:latin typeface="Arial"/>
              </a:rPr>
              <a:t> είναι το μόνο ασύρματο πρότυπο που σήμερα έχει τη δυνατότητα να παραδώσει τις αληθινές ευρυζωνικές ταχύτητες και βοηθάει στο να γίνει το όραμα της κυρίαρχης συνδετικότητας μια πραγματικότητα.</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u="sng">
                <a:solidFill>
                  <a:srgbClr val="6767ff"/>
                </a:solidFill>
                <a:uFillTx/>
                <a:latin typeface="Arial"/>
              </a:rPr>
              <a:t>http://bestbuydoc.com/el/doc-fil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δοκιμαστική εγκατάσταση σταθμών WiMAX έχει ξεκινήσει ήδη και αναμένεται η επέκταση των δοκιμών και της διάδοση της τεχνολογίας. Οι αισιόδοξοι κάνουν αναφορές για το 2006 και πέρα αλλά φαίνεται πως θα χρειαστούν τουλάχιστον 2 χρόνια μέχρι την εκτεταμένη διάδοση του standard και το άνοιγμα στην αγορά.</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μελλοντικά laptop (Intel Centrino WiMAX) και πιθανώς τα κινητά τηλέφωνα και PDA θα υποστηρίζουν την τεχνολογία WiMAX βασισμένα σε συμβατό με το standard ΙΕΕΕ 802.16e hardware, όπως ακριβώς συμβαίνει τώρα με το WiFi και το standard 802.11.</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767ff"/>
                </a:solidFill>
                <a:uFillTx/>
                <a:latin typeface="Arial"/>
              </a:rPr>
              <a:t>www.pestaola.gr/wimax-in-plain-greek/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57888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4" name="PlaceHolder 2"/>
          <p:cNvSpPr>
            <a:spLocks noGrp="1"/>
          </p:cNvSpPr>
          <p:nvPr>
            <p:ph/>
          </p:nvPr>
        </p:nvSpPr>
        <p:spPr>
          <a:xfrm>
            <a:off x="468360" y="907560"/>
            <a:ext cx="8229600" cy="5510520"/>
          </a:xfrm>
          <a:prstGeom prst="rect">
            <a:avLst/>
          </a:prstGeom>
          <a:noFill/>
          <a:ln w="0">
            <a:noFill/>
          </a:ln>
        </p:spPr>
        <p:txBody>
          <a:bodyPr anchor="t">
            <a:normAutofit/>
          </a:bodyPr>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Το WiMAX έχει σημαντικά πλεονεκτήματα έναντι των σημερινών ασύρματων και ενσύρματων συνδέσεων:</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Ιδιωτικές εταιρείες θα έχουν τη δυνατότητα να αναπτύξουν ανεξάρτητα ασύρματα δίκτυα τηλεπικοινωνιών και υπηρεσιών Internet, με πολύ μεγάλη ευκολία, καθώς δεν απαιτείται η εγκατάσταση καλωδίων σε κάθε σημείο της χώρας, αυξάνοντας τον ανταγωνισμό.</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DSL, ούτε και με την τεχνολογία Wi-Fi, λόγω της περιορισμένης της εμβέλειας.</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1900" spc="-1" strike="noStrike">
              <a:solidFill>
                <a:srgbClr val="000000"/>
              </a:solidFill>
              <a:latin typeface="Arial"/>
            </a:endParaRPr>
          </a:p>
          <a:p>
            <a:pPr marL="343080" indent="-343080">
              <a:lnSpc>
                <a:spcPct val="80000"/>
              </a:lnSpc>
              <a:spcBef>
                <a:spcPts val="47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900" spc="-1" strike="noStrike">
                <a:solidFill>
                  <a:srgbClr val="000000"/>
                </a:solidFill>
                <a:latin typeface="Arial"/>
              </a:rPr>
              <a:t>Μετακομίζοντας σε άλλη περιοχή, ο συνδρομητής δεν θα χρειαστεί να κάνει ενεργοποίηση ευρυζωνικής σύνδεσης στον νέο του χώρο, όπως ισχύει για τις γραμμές ADSL. Αφού θα καλύπτεται από το ασύρματο σήμα του παρόχου υπηρεσιών WiMAX, μπορεί να αρχίσει άμεσα να χρησιμοποιεί τη σύνδεσή του </a:t>
            </a:r>
            <a:endParaRPr b="0" lang="en-US" sz="19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http://el.wikipedia.org/wiki/WiMA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43452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6" name="PlaceHolder 2"/>
          <p:cNvSpPr>
            <a:spLocks noGrp="1"/>
          </p:cNvSpPr>
          <p:nvPr>
            <p:ph/>
          </p:nvPr>
        </p:nvSpPr>
        <p:spPr>
          <a:xfrm>
            <a:off x="468360" y="764640"/>
            <a:ext cx="8229600" cy="53658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α </a:t>
            </a:r>
            <a:r>
              <a:rPr b="0" i="1" lang="el-GR" sz="2400" spc="-1" strike="noStrike">
                <a:solidFill>
                  <a:srgbClr val="000000"/>
                </a:solidFill>
                <a:latin typeface="Arial"/>
              </a:rPr>
              <a:t>βασικά</a:t>
            </a:r>
            <a:r>
              <a:rPr b="0" lang="el-GR" sz="2400" spc="-1" strike="noStrike">
                <a:solidFill>
                  <a:srgbClr val="000000"/>
                </a:solidFill>
                <a:latin typeface="Arial"/>
              </a:rPr>
              <a:t> </a:t>
            </a:r>
            <a:r>
              <a:rPr b="0" i="1" lang="el-GR" sz="2400" spc="-1" strike="noStrike">
                <a:solidFill>
                  <a:srgbClr val="000000"/>
                </a:solidFill>
                <a:latin typeface="Arial"/>
              </a:rPr>
              <a:t>πλεονεκτήματα</a:t>
            </a:r>
            <a:r>
              <a:rPr b="0" lang="el-GR" sz="2400" spc="-1" strike="noStrike">
                <a:solidFill>
                  <a:srgbClr val="000000"/>
                </a:solidFill>
                <a:latin typeface="Arial"/>
              </a:rPr>
              <a:t> των συστημάτων που βασίζονται στο πρότυπο 802.16 είναι τα εξής:</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γρήγορης παροχής υπηρεσιών ακόμα και σε περιοχές πολύ απομακρυσμένες όπου η εγκατάσταση ενσύρματων δικτύων θα ήταν εξαιρετικά δύσκολη.</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Αποφυγή μεγάλου κόστους εγκατάστασης.</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t>
            </a:r>
            <a:r>
              <a:rPr b="0" lang="el-GR" sz="2400" spc="-1" strike="noStrike">
                <a:solidFill>
                  <a:srgbClr val="000000"/>
                </a:solidFill>
                <a:latin typeface="Arial"/>
              </a:rPr>
              <a:t>Η ικανότητα υπέρβασης των φυσικών περιορισμών που υπάρχουν στην ενσύρματη δικτύωση.</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υνοψίζοντας τα παραπάνω θα μπορούσαμε να πούμε ότι το 802.16 συνιστά ένα πολύ ευέλικτο και οικονομικό πρότυπο το οποίο μπορεί να καλύψει τις αδυναμίες της ενσύρματης δικτύωσης και επιπλέον να παρέχει νέες υπηρεσίες και προϊόν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95280" y="-34092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38" name="PlaceHolder 2"/>
          <p:cNvSpPr>
            <a:spLocks noGrp="1"/>
          </p:cNvSpPr>
          <p:nvPr>
            <p:ph/>
          </p:nvPr>
        </p:nvSpPr>
        <p:spPr>
          <a:xfrm>
            <a:off x="457200" y="404640"/>
            <a:ext cx="8229600" cy="572616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1</a:t>
            </a:r>
            <a:r>
              <a:rPr b="0" lang="el-GR" sz="2000" spc="-1" strike="noStrike">
                <a:solidFill>
                  <a:srgbClr val="000000"/>
                </a:solidFill>
                <a:latin typeface="Arial"/>
              </a:rPr>
              <a:t> </a:t>
            </a:r>
            <a:r>
              <a:rPr b="1" lang="el-GR" sz="2000" spc="-1" strike="noStrike">
                <a:solidFill>
                  <a:srgbClr val="000000"/>
                </a:solidFill>
                <a:latin typeface="Arial"/>
              </a:rPr>
              <a:t>Τα κύρια χαρακτηριστικά του</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ρχικά βασικό χαρακτηριστικό του προτύπου είναι η </a:t>
            </a:r>
            <a:r>
              <a:rPr b="1" lang="el-GR" sz="2000" spc="-1" strike="noStrike">
                <a:solidFill>
                  <a:srgbClr val="000000"/>
                </a:solidFill>
                <a:latin typeface="Arial"/>
              </a:rPr>
              <a:t>διεκπαιρεωτική ικανότητα (</a:t>
            </a:r>
            <a:r>
              <a:rPr b="1" lang="en-ZW" sz="2000" spc="-1" strike="noStrike">
                <a:solidFill>
                  <a:srgbClr val="000000"/>
                </a:solidFill>
                <a:latin typeface="Arial"/>
              </a:rPr>
              <a:t>throughput</a:t>
            </a:r>
            <a:r>
              <a:rPr b="1" lang="el-GR" sz="2000" spc="-1" strike="noStrike">
                <a:solidFill>
                  <a:srgbClr val="000000"/>
                </a:solidFill>
                <a:latin typeface="Arial"/>
              </a:rPr>
              <a:t>).</a:t>
            </a:r>
            <a:r>
              <a:rPr b="0" lang="el-GR" sz="2000" spc="-1" strike="noStrike">
                <a:solidFill>
                  <a:srgbClr val="000000"/>
                </a:solidFill>
                <a:latin typeface="Arial"/>
              </a:rPr>
              <a:t> </a:t>
            </a:r>
            <a:r>
              <a:rPr b="0" lang="en-ZW" sz="2000" spc="-1" strike="noStrike">
                <a:solidFill>
                  <a:srgbClr val="000000"/>
                </a:solidFill>
                <a:latin typeface="Arial"/>
              </a:rPr>
              <a:t>To</a:t>
            </a:r>
            <a:r>
              <a:rPr b="0" lang="el-GR" sz="2000" spc="-1" strike="noStrike">
                <a:solidFill>
                  <a:srgbClr val="000000"/>
                </a:solidFill>
                <a:latin typeface="Arial"/>
              </a:rPr>
              <a:t> πρότυπο ΙΕΕΕ 802.16 επιτυγχάνει πολύ μεγάλη διεκπαιρεωτική ικανότητα, ακόμα και σε μεγάλες αποστάσεις αφού έχει ένα πολύ μεγάλο φάσμα εκπομπής που είναι ιδιαίτερα ανθεκτικό σε αντανακλάσεις του σήματος κατά τη διάρκεια της διαδρομής του.</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ίσης πολύ σημαντικό για τη διάδοση του είναι η </a:t>
            </a:r>
            <a:r>
              <a:rPr b="1" lang="el-GR" sz="2000" spc="-1" strike="noStrike">
                <a:solidFill>
                  <a:srgbClr val="000000"/>
                </a:solidFill>
                <a:latin typeface="Arial"/>
              </a:rPr>
              <a:t>κλιμακοσιμότητα (</a:t>
            </a:r>
            <a:r>
              <a:rPr b="1" lang="en-ZW" sz="2000" spc="-1" strike="noStrike">
                <a:solidFill>
                  <a:srgbClr val="000000"/>
                </a:solidFill>
                <a:latin typeface="Arial"/>
              </a:rPr>
              <a:t>scalability</a:t>
            </a:r>
            <a:r>
              <a:rPr b="1" lang="el-GR" sz="2000" spc="-1" strike="noStrike">
                <a:solidFill>
                  <a:srgbClr val="000000"/>
                </a:solidFill>
                <a:latin typeface="Arial"/>
              </a:rPr>
              <a:t>)</a:t>
            </a:r>
            <a:r>
              <a:rPr b="0" lang="el-GR" sz="2000" spc="-1" strike="noStrike">
                <a:solidFill>
                  <a:srgbClr val="000000"/>
                </a:solidFill>
                <a:latin typeface="Arial"/>
              </a:rPr>
              <a:t> ή καλύτερα επεκτασιμότητα. Για να μπορεί να γίνει εύκολος και επεκτάσιμος σχεδιασμός κυψελών (</a:t>
            </a:r>
            <a:r>
              <a:rPr b="0" lang="en-ZW" sz="2000" spc="-1" strike="noStrike">
                <a:solidFill>
                  <a:srgbClr val="000000"/>
                </a:solidFill>
                <a:latin typeface="Arial"/>
              </a:rPr>
              <a:t>cells</a:t>
            </a:r>
            <a:r>
              <a:rPr b="0" lang="el-GR" sz="2000" spc="-1" strike="noStrike">
                <a:solidFill>
                  <a:srgbClr val="000000"/>
                </a:solidFill>
                <a:latin typeface="Arial"/>
              </a:rPr>
              <a:t>) επικοινωνίας σε επιτρεπόμενες και μη συχνοτικές μπάντες ,το πρότυπο ΙΕΕΕ 802.16 υποστηρίζει ευέλικτα από την άποψη εύρους ζώνης κανάλια επικοινωνίας. Για παράδειγμα αν σε κάποιο χειριστή ανατεθεί συχνοτικό φάσμα τον 20 </a:t>
            </a:r>
            <a:r>
              <a:rPr b="0" lang="en-ZW" sz="2000" spc="-1" strike="noStrike">
                <a:solidFill>
                  <a:srgbClr val="000000"/>
                </a:solidFill>
                <a:latin typeface="Arial"/>
              </a:rPr>
              <a:t>MHz</a:t>
            </a:r>
            <a:r>
              <a:rPr b="0" lang="el-GR" sz="2000" spc="-1" strike="noStrike">
                <a:solidFill>
                  <a:srgbClr val="000000"/>
                </a:solidFill>
                <a:latin typeface="Arial"/>
              </a:rPr>
              <a:t>, τότε αυτός μπορεί να χωρίσει το φάσμα σε δύο κομμάτια των 10 </a:t>
            </a:r>
            <a:r>
              <a:rPr b="0" lang="en-ZW" sz="2000" spc="-1" strike="noStrike">
                <a:solidFill>
                  <a:srgbClr val="000000"/>
                </a:solidFill>
                <a:latin typeface="Arial"/>
              </a:rPr>
              <a:t>MHz</a:t>
            </a:r>
            <a:r>
              <a:rPr b="0" lang="el-GR" sz="2000" spc="-1" strike="noStrike">
                <a:solidFill>
                  <a:srgbClr val="000000"/>
                </a:solidFill>
                <a:latin typeface="Arial"/>
              </a:rPr>
              <a:t> ή ακόμα σε τέσσερα κομμάτια των 5 </a:t>
            </a:r>
            <a:r>
              <a:rPr b="0" lang="en-ZW" sz="2000" spc="-1" strike="noStrike">
                <a:solidFill>
                  <a:srgbClr val="000000"/>
                </a:solidFill>
                <a:latin typeface="Arial"/>
              </a:rPr>
              <a:t>MHz</a:t>
            </a:r>
            <a:r>
              <a:rPr b="0" lang="el-GR" sz="2000" spc="-1" strike="noStrike">
                <a:solidFill>
                  <a:srgbClr val="000000"/>
                </a:solidFill>
                <a:latin typeface="Arial"/>
              </a:rPr>
              <a:t>. Συγκεντρώνοντας έτσι όλη την ενέργεια σε ένα πολύ μικρό φάσμα συχνοτήτων ο χειριστής μπορεί να αυξήσει τον αριθμό των χρηστών επιτυγχάνοντας παράλληλα μεγάλο βεληνεκές και </a:t>
            </a:r>
            <a:r>
              <a:rPr b="0" lang="en-ZW" sz="2000" spc="-1" strike="noStrike">
                <a:solidFill>
                  <a:srgbClr val="000000"/>
                </a:solidFill>
                <a:latin typeface="Arial"/>
              </a:rPr>
              <a:t>throughput</a:t>
            </a:r>
            <a:r>
              <a:rPr b="0" lang="el-GR" sz="2000" spc="-1" strike="noStrike">
                <a:solidFill>
                  <a:srgbClr val="000000"/>
                </a:solidFill>
                <a:latin typeface="Arial"/>
              </a:rPr>
              <a:t>. Για να κλιμακώσει ακόμα περισσότερο την εμβέλεια του σήματος , ο χειριστής μπορεί να χωρίσει ακόμα περισσότερο το φάσμα συχνοτήτων δημιουργώντας απομόνωση μεταξύ των κεραιών των σταθμών βά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95280" y="-44316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0" name="PlaceHolder 2"/>
          <p:cNvSpPr>
            <a:spLocks noGrp="1"/>
          </p:cNvSpPr>
          <p:nvPr>
            <p:ph/>
          </p:nvPr>
        </p:nvSpPr>
        <p:spPr>
          <a:xfrm>
            <a:off x="395280" y="980640"/>
            <a:ext cx="8229600" cy="475308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Ένα άλλο εξίσου σημαντικό χαρακτηριστικό του </a:t>
            </a:r>
            <a:r>
              <a:rPr b="0" lang="en-US" sz="1800" spc="-1" strike="noStrike">
                <a:solidFill>
                  <a:srgbClr val="000000"/>
                </a:solidFill>
                <a:latin typeface="Arial"/>
              </a:rPr>
              <a:t>WiMax</a:t>
            </a:r>
            <a:r>
              <a:rPr b="0" lang="el-GR" sz="1800" spc="-1" strike="noStrike">
                <a:solidFill>
                  <a:srgbClr val="000000"/>
                </a:solidFill>
                <a:latin typeface="Arial"/>
              </a:rPr>
              <a:t> είναι η </a:t>
            </a:r>
            <a:r>
              <a:rPr b="1" lang="el-GR" sz="1800" spc="-1" strike="noStrike">
                <a:solidFill>
                  <a:srgbClr val="000000"/>
                </a:solidFill>
                <a:latin typeface="Arial"/>
              </a:rPr>
              <a:t>εμβέλεια (</a:t>
            </a:r>
            <a:r>
              <a:rPr b="1" lang="en-ZW" sz="1800" spc="-1" strike="noStrike">
                <a:solidFill>
                  <a:srgbClr val="000000"/>
                </a:solidFill>
                <a:latin typeface="Arial"/>
              </a:rPr>
              <a:t>coverage</a:t>
            </a:r>
            <a:r>
              <a:rPr b="1" lang="el-GR" sz="1800" spc="-1" strike="noStrike">
                <a:solidFill>
                  <a:srgbClr val="000000"/>
                </a:solidFill>
                <a:latin typeface="Arial"/>
              </a:rPr>
              <a:t>).</a:t>
            </a:r>
            <a:r>
              <a:rPr b="0" lang="el-GR" sz="1800" spc="-1" strike="noStrike">
                <a:solidFill>
                  <a:srgbClr val="000000"/>
                </a:solidFill>
                <a:latin typeface="Arial"/>
              </a:rPr>
              <a:t> </a:t>
            </a:r>
            <a:r>
              <a:rPr b="0" lang="en-ZW" sz="1800" spc="-1" strike="noStrike">
                <a:solidFill>
                  <a:srgbClr val="000000"/>
                </a:solidFill>
                <a:latin typeface="Arial"/>
              </a:rPr>
              <a:t>To</a:t>
            </a:r>
            <a:r>
              <a:rPr b="0" lang="el-GR" sz="1800" spc="-1" strike="noStrike">
                <a:solidFill>
                  <a:srgbClr val="000000"/>
                </a:solidFill>
                <a:latin typeface="Arial"/>
              </a:rPr>
              <a:t> πρότυπο ΙΕΕΕ 802.16 κατασκευάζεται έτσι ώστε να υποστηρίζει τεχνολογίες που αυξάνουν την εμβέλεια του σήματος όπως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και έξυπνες κεραίες. Αξίζει να σημειώσουμε ότι  </a:t>
            </a:r>
            <a:r>
              <a:rPr b="0" i="1" lang="en-ZW" sz="1800" spc="-1" strike="noStrike">
                <a:solidFill>
                  <a:srgbClr val="000000"/>
                </a:solidFill>
                <a:latin typeface="Arial"/>
              </a:rPr>
              <a:t>mesh</a:t>
            </a:r>
            <a:r>
              <a:rPr b="0" i="1" lang="el-GR" sz="1800" spc="-1" strike="noStrike">
                <a:solidFill>
                  <a:srgbClr val="000000"/>
                </a:solidFill>
                <a:latin typeface="Arial"/>
              </a:rPr>
              <a:t> τοπολογίες </a:t>
            </a:r>
            <a:r>
              <a:rPr b="0" lang="el-GR" sz="1800" spc="-1" strike="noStrike">
                <a:solidFill>
                  <a:srgbClr val="000000"/>
                </a:solidFill>
                <a:latin typeface="Arial"/>
              </a:rPr>
              <a:t>είναι αυτές οι τοπολογίες δικτύου όπου κάθε κόμβος συνδέεται άμεσα με κάθε άλλο κόμβο του δικτύου. Όσο λοιπόν οι ράδιο-τεχνολογίες βελτιώνονται και το κόστος μειώνεται, μεγαλώνει και η δυνατότητα αύξησης της εμβέλειας και του </a:t>
            </a:r>
            <a:r>
              <a:rPr b="0" lang="en-ZW" sz="1800" spc="-1" strike="noStrike">
                <a:solidFill>
                  <a:srgbClr val="000000"/>
                </a:solidFill>
                <a:latin typeface="Arial"/>
              </a:rPr>
              <a:t>throughput</a:t>
            </a:r>
            <a:r>
              <a:rPr b="0" lang="el-GR" sz="1800" spc="-1" strike="noStrike">
                <a:solidFill>
                  <a:srgbClr val="000000"/>
                </a:solidFill>
                <a:latin typeface="Arial"/>
              </a:rPr>
              <a:t>  με τη χρήση πολλαπλών κεραιών καθώς ενθαρρύνεται και η εξάπλωση της εμβέλειας σε περιοχές που παλαιότερα ήταν αδύνατο να εξαπλωθεί.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H </a:t>
            </a:r>
            <a:r>
              <a:rPr b="1" lang="el-GR" sz="1800" spc="-1" strike="noStrike">
                <a:solidFill>
                  <a:srgbClr val="000000"/>
                </a:solidFill>
                <a:latin typeface="Arial"/>
              </a:rPr>
              <a:t>παροχή υψηλής ποιότητας υπηρεσιών (</a:t>
            </a:r>
            <a:r>
              <a:rPr b="1" lang="en-ZW" sz="1800" spc="-1" strike="noStrike">
                <a:solidFill>
                  <a:srgbClr val="000000"/>
                </a:solidFill>
                <a:latin typeface="Arial"/>
              </a:rPr>
              <a:t>QoS</a:t>
            </a:r>
            <a:r>
              <a:rPr b="1" lang="el-GR" sz="1800" spc="-1" strike="noStrike">
                <a:solidFill>
                  <a:srgbClr val="000000"/>
                </a:solidFill>
                <a:latin typeface="Arial"/>
              </a:rPr>
              <a:t> ή </a:t>
            </a:r>
            <a:r>
              <a:rPr b="1" lang="en-ZW" sz="1800" spc="-1" strike="noStrike">
                <a:solidFill>
                  <a:srgbClr val="000000"/>
                </a:solidFill>
                <a:latin typeface="Arial"/>
              </a:rPr>
              <a:t>Quality of service</a:t>
            </a:r>
            <a:r>
              <a:rPr b="1" lang="el-GR" sz="1800" spc="-1" strike="noStrike">
                <a:solidFill>
                  <a:srgbClr val="000000"/>
                </a:solidFill>
                <a:latin typeface="Arial"/>
              </a:rPr>
              <a:t>)</a:t>
            </a:r>
            <a:r>
              <a:rPr b="0" lang="el-GR" sz="1800" spc="-1" strike="noStrike">
                <a:solidFill>
                  <a:srgbClr val="000000"/>
                </a:solidFill>
                <a:latin typeface="Arial"/>
              </a:rPr>
              <a:t> όπως είναι η μεταφορά φωνής, είναι εξαιρετικά σημαντική για την υιοθέτηση και εξάπλωση του προτύπου. Για αυτό ακριβώς το λόγο το υποπρότυπο 802.16</a:t>
            </a:r>
            <a:r>
              <a:rPr b="0" lang="en-ZW" sz="1800" spc="-1" strike="noStrike">
                <a:solidFill>
                  <a:srgbClr val="000000"/>
                </a:solidFill>
                <a:latin typeface="Arial"/>
              </a:rPr>
              <a:t>a</a:t>
            </a:r>
            <a:r>
              <a:rPr b="0" lang="el-GR" sz="1800" spc="-1" strike="noStrike">
                <a:solidFill>
                  <a:srgbClr val="000000"/>
                </a:solidFill>
                <a:latin typeface="Arial"/>
              </a:rPr>
              <a:t> συμπεριλαμβάνει κάποια ιδιαίτερα χαρακτηριστικά που κάνουν δυνατή τη μεταφορά φωνής και βίντεο αφού για να είναι εφικτή αυτή η μεταφορά χρειάζεται ένα χαμηλού φόρτου δίκτυο. </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6767ff"/>
                </a:solidFill>
                <a:latin typeface="Arial"/>
              </a:rPr>
              <a:t>http://bestbuydoc.com/el/doc-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68360" y="-348840"/>
            <a:ext cx="822960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400" spc="-1" strike="noStrike">
              <a:solidFill>
                <a:srgbClr val="000000"/>
              </a:solidFill>
              <a:latin typeface="Arial"/>
            </a:endParaRPr>
          </a:p>
        </p:txBody>
      </p:sp>
      <p:sp>
        <p:nvSpPr>
          <p:cNvPr id="442" name="PlaceHolder 2"/>
          <p:cNvSpPr>
            <a:spLocks noGrp="1"/>
          </p:cNvSpPr>
          <p:nvPr>
            <p:ph/>
          </p:nvPr>
        </p:nvSpPr>
        <p:spPr>
          <a:xfrm>
            <a:off x="468360" y="0"/>
            <a:ext cx="4038480" cy="5726160"/>
          </a:xfrm>
          <a:prstGeom prst="rect">
            <a:avLst/>
          </a:prstGeom>
          <a:noFill/>
          <a:ln w="0">
            <a:noFill/>
          </a:ln>
        </p:spPr>
        <p:txBody>
          <a:bodyPr anchor="t">
            <a:normAutofit fontScale="93000"/>
          </a:bodyPr>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800" spc="-1" strike="noStrike">
                <a:solidFill>
                  <a:srgbClr val="000000"/>
                </a:solidFill>
                <a:latin typeface="Arial"/>
              </a:rPr>
              <a:t> </a:t>
            </a:r>
            <a:r>
              <a:rPr b="1" lang="el-GR" sz="1600" spc="-1" strike="noStrike">
                <a:solidFill>
                  <a:srgbClr val="000000"/>
                </a:solidFill>
                <a:latin typeface="Arial"/>
              </a:rPr>
              <a:t>Χρήσεις του </a:t>
            </a:r>
            <a:r>
              <a:rPr b="1" lang="en-US" sz="1600" spc="-1" strike="noStrike">
                <a:solidFill>
                  <a:srgbClr val="000000"/>
                </a:solidFill>
                <a:latin typeface="Arial"/>
              </a:rPr>
              <a:t>WiMax</a:t>
            </a:r>
            <a:r>
              <a:rPr b="1" lang="el-GR" sz="1600" spc="-1" strike="noStrike">
                <a:solidFill>
                  <a:srgbClr val="000000"/>
                </a:solidFill>
                <a:latin typeface="Arial"/>
              </a:rPr>
              <a:t>, τοπολογίες και ρυθμοί μετάδοσης</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1" lang="el-GR" sz="1600" spc="-1" strike="noStrike">
                <a:solidFill>
                  <a:srgbClr val="000000"/>
                </a:solidFill>
                <a:latin typeface="Arial"/>
              </a:rPr>
              <a:t>Λόγω των μεγάλων αποστάσεων που καλύπτει και ταυτόχρονα τους υψηλούς ρυθμούς μετάδοσης που μπορεί να παρέχει, το πρότυπο WiMAX βρίσκει πολλές εφαρμογές, λύνοντας σημαντικά προβλήματα που απασχολούσαν του τεχνικούς δικτύων σήμερα. Τρεις είναι οι βασικότερες χρήσεις του.</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ίκτυο κορμού στα κυψελωτά συστήματα κινητής τηλεφωνίας. Η εισαγωγή του προτύπου αυτού αναμένεται να μειώσει σημαντικά το κόστος εξάπλωσης των δικτύων κινητής τηλεφωνίας μιας και αποτελεί μια οικονομικότερη πρόταση, αν συγκριθεί με την οπτική ίνα, για τις εταιρίες κινητής τηλεφωνίας. Εξασφαλίζει ταυτόχρονα αξιοπιστία και υψηλούς ρυθμούς μετάδοσης που απαιτούν τα δίκτυα κορμού των κινητών δικτύων επικοινωνιών. </a:t>
            </a:r>
            <a:endParaRPr b="0" lang="en-US" sz="1600" spc="-1" strike="noStrike">
              <a:solidFill>
                <a:srgbClr val="000000"/>
              </a:solidFill>
              <a:latin typeface="Arial"/>
            </a:endParaRPr>
          </a:p>
          <a:p>
            <a:pPr marL="318960" indent="-31896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Broadband on Demand. Παρέχει υψηλούς ρυθμούς μετάδοσης κάνοντας εφικτή τη χρήση της τεχνολογίας για εφαρμογές πραγματικού χρόνου κάτι που με το πρότυπο ΙΕΕΕ 802.11 σε μεγάλες αποστάσεις δεν ήταν εφικτό.</a:t>
            </a:r>
            <a:endParaRPr b="0" lang="en-US" sz="1600" spc="-1" strike="noStrike">
              <a:solidFill>
                <a:srgbClr val="000000"/>
              </a:solidFill>
              <a:latin typeface="Arial"/>
            </a:endParaRPr>
          </a:p>
        </p:txBody>
      </p:sp>
      <p:pic>
        <p:nvPicPr>
          <p:cNvPr id="443" name="Picture 7" descr="wimax004"/>
          <p:cNvPicPr/>
          <p:nvPr/>
        </p:nvPicPr>
        <p:blipFill>
          <a:blip r:embed="rId1"/>
          <a:stretch/>
        </p:blipFill>
        <p:spPr>
          <a:xfrm>
            <a:off x="4648320" y="1484280"/>
            <a:ext cx="4038480" cy="46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2:53:08Z</dcterms:created>
  <dc:creator>@</dc:creator>
  <dc:description/>
  <dc:language>en-US</dc:language>
  <cp:lastModifiedBy>ΕΛΕΝΗ</cp:lastModifiedBy>
  <dcterms:modified xsi:type="dcterms:W3CDTF">2012-04-03T13:24:37Z</dcterms:modified>
  <cp:revision>4</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